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10066"/>
        <c:axId val="75325797"/>
      </c:barChart>
      <c:catAx>
        <c:axId val="26710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25797"/>
        <c:crosses val="autoZero"/>
        <c:auto val="1"/>
        <c:lblAlgn val="ctr"/>
        <c:lblOffset val="100"/>
        <c:noMultiLvlLbl val="0"/>
      </c:catAx>
      <c:valAx>
        <c:axId val="75325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10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676-4590-4EC3-8F78-06719360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E73-37F8-42A5-86B9-2F43D184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C28-CEA3-42D8-A0B6-280BCCD5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E10-A742-4D8B-9493-45E8311B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33B2-6BCB-4DE1-89BF-76831406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C38-3A06-47BE-9C2A-E0493831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9A20-1F7F-494A-AFE7-033B6913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B91-CA84-494F-8D77-89E87237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98A-312E-4227-BD73-6420BB53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042-5F70-44F5-B888-CDA679A8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F90-8BCA-4845-A1B1-F85CF352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867-CD69-4109-A3BA-5903DED6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329C9-AF6F-45DB-BA50-14013FE9C6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